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88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1896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1436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6B1C3E1-9354-4E7E-B8E8-0BE6EA568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776F74A-3298-49DF-BC50-8255D04FB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92DA513-79E5-44DC-97F2-38CF32AE5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61D5238-6306-41ED-807C-9C6C736F5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824DD03-CA3D-402C-9DA9-E7ECF58FA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1DD34F7-D5A3-4805-AC8D-230F17112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0063933-E8EE-4B95-B9E4-2DDE83511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29F32A0-3442-4FFD-97B8-5D300A8C9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1EF1D89-00A6-41B0-8EC1-5D8AEB513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A21D74C-C5FB-496E-A334-440F77FB0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47DB5D8-E361-4256-B894-CBDE707C7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E2555E4-E786-4196-9105-962D4646C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44A2D22-10AC-4EAA-AE23-263D6A7A8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8297903-929F-4CFE-8F40-1D6FCC95A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3AE0D26-06E0-49C2-A23C-E459AD8D3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25ED8A9-7A24-48EB-8411-AB43B4E27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9D6A146-768E-4CBB-9D01-051ED920D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6936ACA-9BCF-4FDF-B4D8-F26747327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4382EC5-7D2A-4084-BC6B-808EA4290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3FCC962-9BE3-45EC-85E9-4FAAC4883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human_legacy_CONTENT_ful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152280" y="39600"/>
            <a:ext cx="29718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assical Gre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>
            <a:hlinkClick r:id="" action="ppaction://hlinkshowjump?jump=previousslide"/>
          </p:cNvPr>
          <p:cNvSpPr/>
          <p:nvPr/>
        </p:nvSpPr>
        <p:spPr>
          <a:xfrm>
            <a:off x="4724280" y="6191280"/>
            <a:ext cx="990720" cy="20952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1">
            <a:hlinkClick r:id="" action="ppaction://hlinkshowjump?jump=nextslide"/>
          </p:cNvPr>
          <p:cNvSpPr/>
          <p:nvPr/>
        </p:nvSpPr>
        <p:spPr>
          <a:xfrm>
            <a:off x="5791320" y="6191280"/>
            <a:ext cx="914400" cy="20952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2">
            <a:hlinkClick r:id="" action="ppaction://hlinkshowjump?jump=firstslide"/>
          </p:cNvPr>
          <p:cNvSpPr/>
          <p:nvPr/>
        </p:nvSpPr>
        <p:spPr>
          <a:xfrm>
            <a:off x="6858000" y="6172200"/>
            <a:ext cx="104760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3">
            <a:hlinkClick r:id="" action="ppaction://hlinkshowjump?jump=endshow"/>
          </p:cNvPr>
          <p:cNvSpPr/>
          <p:nvPr/>
        </p:nvSpPr>
        <p:spPr>
          <a:xfrm>
            <a:off x="8077320" y="6172200"/>
            <a:ext cx="74268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80980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dea / Reading Foc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k Philoso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Facts: Greek Philoso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k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k Architecture and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Greek 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Forms of 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65948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s wrote many types of poetry besides e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siod wrote descriptive poetry about works of gods, lives of peas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ks also cre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yric po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7468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d after the lyre, musical instrument often played to accompany reading of po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7468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ric poems do not tell stories, but deal with emotions, des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ric poe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7468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pho, one of few Greek women to gain fame as writer; dealt with daily life, marriage,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7468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dar, late 500s, early 400s; poems commemorated public events, like Olympic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457200" y="1143000"/>
            <a:ext cx="8229600" cy="17611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ng fields for which Greeks best kn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k authors wrote about and analyzed own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ajor Greek historia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odo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d in Greece during wars with Persia; described battles and public debat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His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457200" y="3003480"/>
            <a:ext cx="4038120" cy="2939760"/>
            <a:chOff x="457200" y="3003480"/>
            <a:chExt cx="4038120" cy="2939760"/>
          </a:xfrm>
        </p:grpSpPr>
        <p:sp>
          <p:nvSpPr>
            <p:cNvPr id="99" name="Text Box 4"/>
            <p:cNvSpPr/>
            <p:nvPr/>
          </p:nvSpPr>
          <p:spPr>
            <a:xfrm>
              <a:off x="457200" y="3517560"/>
              <a:ext cx="4038120" cy="24256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ucydid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lived during Peloponnesian War, wrote about 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luded primary sources, like speeches he heard deli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oked at sources critically, ignored unreliable, irrelevant 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"/>
            <p:cNvSpPr/>
            <p:nvPr/>
          </p:nvSpPr>
          <p:spPr>
            <a:xfrm>
              <a:off x="457200" y="3003480"/>
              <a:ext cx="4038120" cy="5140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mary Sour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6"/>
          <p:cNvGrpSpPr/>
          <p:nvPr/>
        </p:nvGrpSpPr>
        <p:grpSpPr>
          <a:xfrm>
            <a:off x="4648320" y="3003480"/>
            <a:ext cx="4038120" cy="2939760"/>
            <a:chOff x="4648320" y="3003480"/>
            <a:chExt cx="4038120" cy="2939760"/>
          </a:xfrm>
        </p:grpSpPr>
        <p:sp>
          <p:nvSpPr>
            <p:cNvPr id="102" name="Text Box 7"/>
            <p:cNvSpPr/>
            <p:nvPr/>
          </p:nvSpPr>
          <p:spPr>
            <a:xfrm>
              <a:off x="4648320" y="3517560"/>
              <a:ext cx="4038120" cy="24256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other early historian, Xenoph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ught in Persia after Persian W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centrated less on sources, debates, more on describing famous men; had less critical 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rk has helped us learn what life was like in 300s BC Gree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"/>
            <p:cNvSpPr/>
            <p:nvPr/>
          </p:nvSpPr>
          <p:spPr>
            <a:xfrm>
              <a:off x="4648320" y="3003480"/>
              <a:ext cx="4038120" cy="5140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escribing Famous M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533520" y="1219320"/>
            <a:ext cx="8076960" cy="7038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he Greeks wrote histories to preserve the past, they created a new form of writing for entertainment—drama, the art of playwr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533520" y="2031840"/>
            <a:ext cx="3885840" cy="3911400"/>
            <a:chOff x="533520" y="2031840"/>
            <a:chExt cx="3885840" cy="3911400"/>
          </a:xfrm>
        </p:grpSpPr>
        <p:sp>
          <p:nvSpPr>
            <p:cNvPr id="107" name="Text Box 4"/>
            <p:cNvSpPr/>
            <p:nvPr/>
          </p:nvSpPr>
          <p:spPr>
            <a:xfrm>
              <a:off x="533520" y="2452680"/>
              <a:ext cx="3885840" cy="34905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arliest dramas part of festiv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onysus, god of wine and celeb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oup of actors called a chor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cited stori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5"/>
            <p:cNvSpPr/>
            <p:nvPr/>
          </p:nvSpPr>
          <p:spPr>
            <a:xfrm>
              <a:off x="533520" y="2031840"/>
              <a:ext cx="3885840" cy="4208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thenian Roo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6"/>
          <p:cNvGrpSpPr/>
          <p:nvPr/>
        </p:nvGrpSpPr>
        <p:grpSpPr>
          <a:xfrm>
            <a:off x="4724280" y="2031840"/>
            <a:ext cx="3885840" cy="3911400"/>
            <a:chOff x="4724280" y="2031840"/>
            <a:chExt cx="3885840" cy="3911400"/>
          </a:xfrm>
        </p:grpSpPr>
        <p:sp>
          <p:nvSpPr>
            <p:cNvPr id="110" name="Text Box 7"/>
            <p:cNvSpPr/>
            <p:nvPr/>
          </p:nvSpPr>
          <p:spPr>
            <a:xfrm>
              <a:off x="4724280" y="2452680"/>
              <a:ext cx="3885840" cy="34905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49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ramas became more comple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dividual actors took on roles of specific characters in sto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wo distinct forms of dramas developed, tragedy and come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8"/>
            <p:cNvSpPr/>
            <p:nvPr/>
          </p:nvSpPr>
          <p:spPr>
            <a:xfrm>
              <a:off x="4724280" y="2031840"/>
              <a:ext cx="3885840" cy="4208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inct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1"/>
          <p:cNvGrpSpPr/>
          <p:nvPr/>
        </p:nvGrpSpPr>
        <p:grpSpPr>
          <a:xfrm>
            <a:off x="4572000" y="1143000"/>
            <a:ext cx="4114800" cy="4724280"/>
            <a:chOff x="4572000" y="1143000"/>
            <a:chExt cx="4114800" cy="4724280"/>
          </a:xfrm>
        </p:grpSpPr>
        <p:sp>
          <p:nvSpPr>
            <p:cNvPr id="115" name="Text Box 4"/>
            <p:cNvSpPr/>
            <p:nvPr/>
          </p:nvSpPr>
          <p:spPr>
            <a:xfrm>
              <a:off x="4572000" y="1143000"/>
              <a:ext cx="4114800" cy="507960"/>
            </a:xfrm>
            <a:prstGeom prst="rect">
              <a:avLst/>
            </a:prstGeom>
            <a:solidFill>
              <a:srgbClr val="e2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19"/>
            <p:cNvGrpSpPr/>
            <p:nvPr/>
          </p:nvGrpSpPr>
          <p:grpSpPr>
            <a:xfrm>
              <a:off x="4572000" y="1182600"/>
              <a:ext cx="4114800" cy="4684680"/>
              <a:chOff x="4572000" y="1182600"/>
              <a:chExt cx="4114800" cy="4684680"/>
            </a:xfrm>
          </p:grpSpPr>
          <p:sp>
            <p:nvSpPr>
              <p:cNvPr id="117" name="Text Box 3"/>
              <p:cNvSpPr/>
              <p:nvPr/>
            </p:nvSpPr>
            <p:spPr>
              <a:xfrm>
                <a:off x="4572000" y="1650960"/>
                <a:ext cx="4114800" cy="4216320"/>
              </a:xfrm>
              <a:prstGeom prst="rect">
                <a:avLst/>
              </a:prstGeom>
              <a:solidFill>
                <a:srgbClr val="e2f4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28600" indent="-22860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ny comedies were satires, plays written to expose flaws of society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Arial"/>
                  </a:rPr>
                  <a:t>Aristophanes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greatest Greek comedy write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Plays poke fun at aspects of Athenian society, from government to treatment of women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4648320" y="1182600"/>
                <a:ext cx="403848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33280" indent="-233280" algn="ctr">
                  <a:lnSpc>
                    <a:spcPct val="11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Comedi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Group 20"/>
          <p:cNvGrpSpPr/>
          <p:nvPr/>
        </p:nvGrpSpPr>
        <p:grpSpPr>
          <a:xfrm>
            <a:off x="457200" y="1143000"/>
            <a:ext cx="3962160" cy="4723920"/>
            <a:chOff x="457200" y="1143000"/>
            <a:chExt cx="3962160" cy="4723920"/>
          </a:xfrm>
        </p:grpSpPr>
        <p:grpSp>
          <p:nvGrpSpPr>
            <p:cNvPr id="120" name="Group 14"/>
            <p:cNvGrpSpPr/>
            <p:nvPr/>
          </p:nvGrpSpPr>
          <p:grpSpPr>
            <a:xfrm>
              <a:off x="457200" y="1143000"/>
              <a:ext cx="3962160" cy="4723920"/>
              <a:chOff x="457200" y="1143000"/>
              <a:chExt cx="3962160" cy="4723920"/>
            </a:xfrm>
          </p:grpSpPr>
          <p:sp>
            <p:nvSpPr>
              <p:cNvPr id="121" name="Text Box 15"/>
              <p:cNvSpPr/>
              <p:nvPr/>
            </p:nvSpPr>
            <p:spPr>
              <a:xfrm>
                <a:off x="457200" y="1651320"/>
                <a:ext cx="3962160" cy="4215600"/>
              </a:xfrm>
              <a:prstGeom prst="rect">
                <a:avLst/>
              </a:prstGeom>
              <a:solidFill>
                <a:srgbClr val="80b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31840" indent="-23184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Focused on hardships faced by Greek heroes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31840" indent="-23184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Three great writer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71680" indent="-22572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eschylus, Greek myth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71680" indent="-22572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ophocles, suffering people brought on selve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71680" indent="-225720">
                  <a:lnSpc>
                    <a:spcPct val="100000"/>
                  </a:lnSpc>
                  <a:spcAft>
                    <a:spcPts val="1375"/>
                  </a:spcAft>
                  <a:buClr>
                    <a:srgbClr val="000000"/>
                  </a:buClr>
                  <a:buFont typeface="Arial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Euripides, tragedy brought on by chance, behavio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6"/>
              <p:cNvSpPr/>
              <p:nvPr/>
            </p:nvSpPr>
            <p:spPr>
              <a:xfrm>
                <a:off x="457200" y="1143000"/>
                <a:ext cx="3962160" cy="508320"/>
              </a:xfrm>
              <a:prstGeom prst="rect">
                <a:avLst/>
              </a:prstGeom>
              <a:solidFill>
                <a:srgbClr val="80b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5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5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Rectangle 18"/>
            <p:cNvSpPr/>
            <p:nvPr/>
          </p:nvSpPr>
          <p:spPr>
            <a:xfrm>
              <a:off x="457200" y="1182600"/>
              <a:ext cx="3886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3280" indent="-233280" algn="ctr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raged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23720" y="1222200"/>
            <a:ext cx="8229600" cy="2590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forms of writing did the Greeks exc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25520" y="4032360"/>
            <a:ext cx="8153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pics, history, poetry, d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57200" y="1143000"/>
            <a:ext cx="403848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au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henians enjoyed beauty, both written and 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ed love of written beauty through literature; visual beauty through architecture, a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57200" y="3581280"/>
            <a:ext cx="4038480" cy="22860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hance appearance of buildings, added fine works of art, painted and scul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t buildings built on acropolis, at cit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c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648320" y="1143000"/>
            <a:ext cx="4038480" cy="22860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henians wanted their city to be most beautiful in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magnificent temples, theatres, public building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648320" y="3581280"/>
            <a:ext cx="403848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he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magnificent on acro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ive temple to Ath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un by Pericles, 447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k 14 years to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k Architecture and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k Architecture and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henon impressive not for sheer size, but for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s careful not to make too tall, too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henon more than 200 feet long, 100 feet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doors, no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rounded by tall, graceful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columns, slabs of marble carved with scenes from my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ins appear white today, but parts originally painted in vivid h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gold, ivory statue of Athena stood inside Parthe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57200" y="1143000"/>
            <a:ext cx="8229600" cy="14886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uman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k sculptors among finest world has ever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ularly adept at sculpting human form; studied people at rest, mo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ed to re-create what they saw, paid particular attention to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457200" y="4343400"/>
            <a:ext cx="8229600" cy="148860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man C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original works remain; most copies made a few hundred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n artists made many copies of greatest Greek stat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opies survived even after original statues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457200" y="2743200"/>
            <a:ext cx="8229600" cy="148860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felike, Not Real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ks wanted statues to look lifelike, active, not necessarily rea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rayed subjects as physically perfect, without blemishes, imperf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k statues almost all depict figures of great beauty,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ul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57200" y="3352680"/>
            <a:ext cx="8229600" cy="24922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Pain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evidence of larger works; written sources say Greeks created murals in many public buil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included scenes from Iliad, Odyssey; showed aftermath of battles, rather than battle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s similar to tragic drama popular with Athen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914400"/>
            <a:ext cx="8229600" cy="23461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few original Greek paintings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preserved are paintings on vases, plates, other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es from everyday life, or from myths, leg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use only red, black; still convey movement,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79440" y="847800"/>
            <a:ext cx="8229600" cy="266544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General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some characteristics of Greek architecture and 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11120" y="3592440"/>
            <a:ext cx="815328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chitecture—proportion, columns, vivid colors; art—idealistic sculpture depicting the human form; red and black vessels with scenes conveying movement and depth; murals and wall pain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Greek philosophy influence later think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types of literature did the Greeks cre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were the aims of Greek art and architect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ncient Greeks made great achievements in philosophy, literature, art, and architecture that influenced the development of later cultures and ide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k Achie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533520" y="1143000"/>
            <a:ext cx="8076960" cy="100872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their condemnation of Socrates, the people of ancient Greece were great believers in philosophy. The wor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ilosop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self comes from the Greek wor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ilosoph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eaning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ve of wisdom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533520" y="2209680"/>
            <a:ext cx="2590560" cy="3733560"/>
            <a:chOff x="533520" y="2209680"/>
            <a:chExt cx="2590560" cy="3733560"/>
          </a:xfrm>
        </p:grpSpPr>
        <p:sp>
          <p:nvSpPr>
            <p:cNvPr id="57" name="Text Box 4"/>
            <p:cNvSpPr/>
            <p:nvPr/>
          </p:nvSpPr>
          <p:spPr>
            <a:xfrm>
              <a:off x="533520" y="2611440"/>
              <a:ext cx="2590560" cy="33318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arliest philosophy traced to 500s 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ched height in Athens during 400s, 300s 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spired by greatest philosophers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rate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at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isto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5"/>
            <p:cNvSpPr/>
            <p:nvPr/>
          </p:nvSpPr>
          <p:spPr>
            <a:xfrm>
              <a:off x="533520" y="2209680"/>
              <a:ext cx="2590560" cy="4017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ackgr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6"/>
          <p:cNvGrpSpPr/>
          <p:nvPr/>
        </p:nvGrpSpPr>
        <p:grpSpPr>
          <a:xfrm>
            <a:off x="3276720" y="2209680"/>
            <a:ext cx="2590560" cy="3733560"/>
            <a:chOff x="3276720" y="2209680"/>
            <a:chExt cx="2590560" cy="3733560"/>
          </a:xfrm>
        </p:grpSpPr>
        <p:sp>
          <p:nvSpPr>
            <p:cNvPr id="60" name="Text Box 7"/>
            <p:cNvSpPr/>
            <p:nvPr/>
          </p:nvSpPr>
          <p:spPr>
            <a:xfrm>
              <a:off x="3276720" y="2611440"/>
              <a:ext cx="2590560" cy="333180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rst great Athenian philosoph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ttle known of his personal 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dents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writings, including Plato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, put forth his ide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8"/>
            <p:cNvSpPr/>
            <p:nvPr/>
          </p:nvSpPr>
          <p:spPr>
            <a:xfrm>
              <a:off x="3276720" y="2209680"/>
              <a:ext cx="2590560" cy="4017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ocr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9"/>
          <p:cNvGrpSpPr/>
          <p:nvPr/>
        </p:nvGrpSpPr>
        <p:grpSpPr>
          <a:xfrm>
            <a:off x="6019920" y="2209680"/>
            <a:ext cx="2590560" cy="3733560"/>
            <a:chOff x="6019920" y="2209680"/>
            <a:chExt cx="2590560" cy="3733560"/>
          </a:xfrm>
        </p:grpSpPr>
        <p:sp>
          <p:nvSpPr>
            <p:cNvPr id="63" name="Text Box 10"/>
            <p:cNvSpPr/>
            <p:nvPr/>
          </p:nvSpPr>
          <p:spPr>
            <a:xfrm>
              <a:off x="6019920" y="2611440"/>
              <a:ext cx="2590560" cy="33318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ritings give clear picture of Socrates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 thoughts and how he taugh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crates interested in broad concepts of human life—truth, justice, virt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1"/>
            <p:cNvSpPr/>
            <p:nvPr/>
          </p:nvSpPr>
          <p:spPr>
            <a:xfrm>
              <a:off x="6019920" y="2209680"/>
              <a:ext cx="2590560" cy="4017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road Concep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2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k Philos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67" name="Text Box 3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y working through series of questions, Socrates thought people could discover basic nature of 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thod of learning through questions called the Socratic meth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4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ocratic Meth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5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70" name="Text Box 6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crates believed philosophers could learn what made good people, societies by asking ques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rted with basic questions, like 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is truth?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crates followed up with more ques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7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sking Ques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Rectangle 8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ilosophy of Soc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3276720"/>
            <a:ext cx="8229600" cy="265104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osophers most qualified to make good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not support Athenian democracy in which all men could take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o wanted to make philosoph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education more f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the Academy, which in Plat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lifetime became most important site for Greek philosophers to do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57200" y="914400"/>
            <a:ext cx="8229600" cy="21873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Socrat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udents, became great philosopher in ow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 behind great number of writings that record ideas on wide variety of topics, from nature of truth to ideal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e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gues that government should be led by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1143000"/>
            <a:ext cx="8229600" cy="15778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Third Philoso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totle was among students who studied at the Acade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cerned with nature of world that surrounded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ed to apply philosophical principles to every kind of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4343400"/>
            <a:ext cx="8229600" cy="1463400"/>
          </a:xfrm>
          <a:prstGeom prst="rect">
            <a:avLst/>
          </a:prstGeom>
          <a:solidFill>
            <a:srgbClr val="80b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ferring New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totle also helped develop fiel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ocess of making in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birds have feathers, lay eggs; owls have feathers, lay eggs; therefore, owl must be a type of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57200" y="2743200"/>
            <a:ext cx="8229600" cy="15778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mphasis on Reason and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on reason,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lear and ordered thinking; use reason to learn about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carefully, think rationally about what one has 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isto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P143"/>
          <p:cNvPicPr/>
          <p:nvPr/>
        </p:nvPicPr>
        <p:blipFill>
          <a:blip r:embed="rId1"/>
          <a:stretch/>
        </p:blipFill>
        <p:spPr>
          <a:xfrm>
            <a:off x="2093760" y="646200"/>
            <a:ext cx="4954680" cy="52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84200" y="1512720"/>
            <a:ext cx="8229600" cy="25545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ere the greatest philosophers of ancient Gree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501480" y="4381560"/>
            <a:ext cx="8153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crates, Plato, and Aristo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457200" y="5546880"/>
            <a:ext cx="8229600" cy="3988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wo works became basis for the Greek education syst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57200" y="1143000"/>
            <a:ext cx="8229600" cy="10087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Greek literature remains, with a great many works still popular today. Greeks excelled in poetry—both epics and other forms—history, and d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457200" y="2220840"/>
            <a:ext cx="4038120" cy="3233160"/>
            <a:chOff x="457200" y="2220840"/>
            <a:chExt cx="4038120" cy="3233160"/>
          </a:xfrm>
        </p:grpSpPr>
        <p:sp>
          <p:nvSpPr>
            <p:cNvPr id="89" name="Text Box 5"/>
            <p:cNvSpPr/>
            <p:nvPr/>
          </p:nvSpPr>
          <p:spPr>
            <a:xfrm>
              <a:off x="457200" y="2786040"/>
              <a:ext cx="4038120" cy="266796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st famous works are some of earli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 poems of great events and hero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liad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th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dysse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attributed to poet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m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tell stories of Trojan W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6"/>
            <p:cNvSpPr/>
            <p:nvPr/>
          </p:nvSpPr>
          <p:spPr>
            <a:xfrm>
              <a:off x="457200" y="2220840"/>
              <a:ext cx="4038120" cy="5652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omer</a:t>
              </a:r>
              <a:r>
                <a:rPr b="1" i="1" lang="ja-JP" sz="2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 Ep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k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4648320" y="2220840"/>
            <a:ext cx="4038120" cy="3233160"/>
            <a:chOff x="4648320" y="2220840"/>
            <a:chExt cx="4038120" cy="3233160"/>
          </a:xfrm>
        </p:grpSpPr>
        <p:sp>
          <p:nvSpPr>
            <p:cNvPr id="93" name="Text Box 9"/>
            <p:cNvSpPr/>
            <p:nvPr/>
          </p:nvSpPr>
          <p:spPr>
            <a:xfrm>
              <a:off x="4648320" y="2786040"/>
              <a:ext cx="4038120" cy="266796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lia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ells story of last year of war, two heroe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—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hilles and He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dyssey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lls story of heroes from the war,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th Odysseus who was forced to wander the s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0"/>
            <p:cNvSpPr/>
            <p:nvPr/>
          </p:nvSpPr>
          <p:spPr>
            <a:xfrm>
              <a:off x="4648320" y="2220840"/>
              <a:ext cx="4038120" cy="5652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liad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dyss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Microsoft Office User</cp:lastModifiedBy>
  <cp:lastPrinted>2005-02-01T16:21:45Z</cp:lastPrinted>
  <dcterms:modified xsi:type="dcterms:W3CDTF">2011-10-29T18:15:35Z</dcterms:modified>
  <cp:revision>267</cp:revision>
  <dc:subject/>
  <dc:title>PowerPoint Presentation</dc:title>
</cp:coreProperties>
</file>